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0233600" cy="32918400"/>
  <p:notesSz cx="32100838" cy="3917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A48-C374-4E50-BDB8-3FE19B3B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7880" y="1982592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B34-0CFC-4972-B042-A10125A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54124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F3D-5ACE-4FC3-A76F-9922550C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8000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14248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788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8000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14248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BBB-D2AD-4606-A7C9-5FB40B46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654-7E73-441A-BE21-59EA0CB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277-F7A7-408E-A04D-59191F9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248-458F-4BA4-BE30-E63C542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5BF-EE7C-4030-B9BF-6940374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7880" y="2925720"/>
            <a:ext cx="34197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EC5-83C6-4C10-8A73-D608D907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608-99F4-4F6F-9A2C-A592A34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4124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F5A-8B47-4E22-B43C-84AE54EC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403-488B-41DE-B8A9-E5F0456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marL="1566720" indent="-156672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5520" indent="-130464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2432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15200" indent="-10447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752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46240" y="29992680"/>
            <a:ext cx="1274112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ct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83348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9960"/>
                <a:tab algn="l" pos="8359920"/>
              </a:tabLst>
            </a:pPr>
            <a:fld id="{6DF4DB40-4E90-4604-9F2C-CB13F88128D5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2.wmf"/><Relationship Id="rId17" Type="http://schemas.openxmlformats.org/officeDocument/2006/relationships/image" Target="../media/image12.wmf"/><Relationship Id="rId18" Type="http://schemas.openxmlformats.org/officeDocument/2006/relationships/image" Target="../media/image13.wmf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wmf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6.wmf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8.wmf"/><Relationship Id="rId35" Type="http://schemas.openxmlformats.org/officeDocument/2006/relationships/image" Target="../media/image19.wmf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20.wmf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21.wmf"/><Relationship Id="rId44" Type="http://schemas.openxmlformats.org/officeDocument/2006/relationships/image" Target="../media/image22.wmf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23.wmf"/><Relationship Id="rId50" Type="http://schemas.openxmlformats.org/officeDocument/2006/relationships/image" Target="../media/image24.wmf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25.wmf"/><Relationship Id="rId56" Type="http://schemas.openxmlformats.org/officeDocument/2006/relationships/image" Target="../media/image26.wmf"/><Relationship Id="rId57" Type="http://schemas.openxmlformats.org/officeDocument/2006/relationships/image" Target="../media/image27.wmf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28.wmf"/><Relationship Id="rId65" Type="http://schemas.openxmlformats.org/officeDocument/2006/relationships/image" Target="../media/image29.wmf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915400" y="1066680"/>
            <a:ext cx="21488400" cy="353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li aggettiv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952880"/>
            <a:ext cx="115826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MPLI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S WE FIND THEM IN THE DICTIONA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7391520"/>
            <a:ext cx="7543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A CASA E’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MIO CANE E’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VEC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RO SONO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A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AUTOMOBILI ITALIANE SONO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0" y="5638680"/>
            <a:ext cx="1226808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COMPARATI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WHEN TWO OR MORE THINGS ARE COMPARED TO EACH OTH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73200" y="8610480"/>
            <a:ext cx="11810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E’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PIU’ BELLA DELL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E’ MENO BELLA DELL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SA DI UMB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E’ BELLA CO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A CASA DI TUO FRAT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22720" y="5334120"/>
            <a:ext cx="8762760" cy="21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ERLATI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WHEN SOMETHING IS VERY OR THE MOST + AD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9400" y="80773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E’ 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LA PIU’ BELLA 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I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TUA CASA E’ 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BELLISSIMA / MOLTO B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876920" y="6781680"/>
            <a:ext cx="1676160" cy="146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8897480" y="8915400"/>
            <a:ext cx="762120" cy="110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859000" y="8991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5087600" y="1074420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9050120" y="10667880"/>
            <a:ext cx="1600200" cy="108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9431000" y="12573000"/>
            <a:ext cx="2209680" cy="157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4935320" y="12649320"/>
            <a:ext cx="144756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1523880" y="8991720"/>
            <a:ext cx="1676520" cy="11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3886200" y="9753480"/>
            <a:ext cx="185724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066680" y="13182480"/>
            <a:ext cx="2819520" cy="93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257800" y="133351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819520" y="14173200"/>
            <a:ext cx="1952640" cy="170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6535520"/>
            <a:ext cx="402336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78720"/>
            <a:ext cx="4023360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868280" y="15849720"/>
            <a:ext cx="12801600" cy="518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RREGO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BUONO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MIGLIORE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OTT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TTIV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GGIORE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SS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32156280" y="8686800"/>
            <a:ext cx="2438640" cy="22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31089600" y="12192120"/>
            <a:ext cx="3276720" cy="28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685800" y="23393520"/>
            <a:ext cx="1752480" cy="78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3962520" y="22097880"/>
            <a:ext cx="1888920" cy="2210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09480" y="20345400"/>
            <a:ext cx="38102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RAND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ICCOL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696080" y="20954880"/>
            <a:ext cx="1917720" cy="221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7518240"/>
            <a:ext cx="26822160" cy="178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67680" y="23164920"/>
            <a:ext cx="2133720" cy="2361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15200" y="22021920"/>
            <a:ext cx="419112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UMIN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CU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8"/>
          <a:stretch/>
        </p:blipFill>
        <p:spPr>
          <a:xfrm>
            <a:off x="13182480" y="21267720"/>
            <a:ext cx="2295720" cy="227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9"/>
          <a:stretch/>
        </p:blipFill>
        <p:spPr>
          <a:xfrm>
            <a:off x="17221320" y="22174200"/>
            <a:ext cx="2307960" cy="37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163920" y="21259800"/>
            <a:ext cx="3581280" cy="27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LLEG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RIS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4"/>
          <a:stretch/>
        </p:blipFill>
        <p:spPr>
          <a:xfrm>
            <a:off x="21259800" y="21107520"/>
            <a:ext cx="2857680" cy="26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5"/>
          <a:stretch/>
        </p:blipFill>
        <p:spPr>
          <a:xfrm>
            <a:off x="24841080" y="23774400"/>
            <a:ext cx="1509840" cy="335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402800" y="23088600"/>
            <a:ext cx="2838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ALA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A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0"/>
          <a:stretch/>
        </p:blipFill>
        <p:spPr>
          <a:xfrm>
            <a:off x="29899080" y="21031200"/>
            <a:ext cx="19335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8498680" y="24612480"/>
            <a:ext cx="403884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USCOL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3"/>
          <a:stretch/>
        </p:blipFill>
        <p:spPr>
          <a:xfrm>
            <a:off x="34899480" y="21336120"/>
            <a:ext cx="467676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4"/>
          <a:stretch/>
        </p:blipFill>
        <p:spPr>
          <a:xfrm>
            <a:off x="35585280" y="25755480"/>
            <a:ext cx="3195720" cy="3743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366320" y="22555080"/>
            <a:ext cx="5029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DER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TIC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9"/>
          <a:stretch/>
        </p:blipFill>
        <p:spPr>
          <a:xfrm>
            <a:off x="1219320" y="25374600"/>
            <a:ext cx="3886200" cy="348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0"/>
          <a:stretch/>
        </p:blipFill>
        <p:spPr>
          <a:xfrm>
            <a:off x="7086600" y="28117800"/>
            <a:ext cx="3962520" cy="367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523880" y="26898480"/>
            <a:ext cx="60962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RED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AL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5"/>
          <a:stretch/>
        </p:blipFill>
        <p:spPr>
          <a:xfrm>
            <a:off x="17221320" y="26517600"/>
            <a:ext cx="2590560" cy="25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6"/>
          <a:stretch/>
        </p:blipFill>
        <p:spPr>
          <a:xfrm>
            <a:off x="12877920" y="26517600"/>
            <a:ext cx="2971800" cy="271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7"/>
          <a:stretch/>
        </p:blipFill>
        <p:spPr>
          <a:xfrm>
            <a:off x="21107520" y="26579520"/>
            <a:ext cx="2514600" cy="244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2115800" y="28879920"/>
            <a:ext cx="34290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IOV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154280" y="28651320"/>
            <a:ext cx="3733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VOL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45400" y="28803600"/>
            <a:ext cx="396252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RE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4"/>
          <a:stretch/>
        </p:blipFill>
        <p:spPr>
          <a:xfrm>
            <a:off x="31775400" y="26669880"/>
            <a:ext cx="3392640" cy="373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5"/>
          <a:stretch/>
        </p:blipFill>
        <p:spPr>
          <a:xfrm>
            <a:off x="25298280" y="28041480"/>
            <a:ext cx="2938680" cy="3819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041480" y="27432000"/>
            <a:ext cx="4953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IU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PER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 rot="5442000">
            <a:off x="1366560" y="-1589040"/>
            <a:ext cx="4651560" cy="73980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4975440" y="-360"/>
            <a:ext cx="5257800" cy="563868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21:27:28Z</dcterms:created>
  <dc:creator>ValeriaP</dc:creator>
  <dc:description/>
  <dc:language>en-US</dc:language>
  <cp:lastModifiedBy>Preferred Customer</cp:lastModifiedBy>
  <dcterms:modified xsi:type="dcterms:W3CDTF">2001-01-08T01:17:52Z</dcterms:modified>
  <cp:revision>13</cp:revision>
  <dc:subject/>
  <dc:title>No Slide Title</dc:title>
</cp:coreProperties>
</file>